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DE71B-2C39-4148-AEA4-A54CB0173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A1F8A-BE3A-4CC0-BEBB-CCBE5A4EA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945A0-B9AF-4595-8351-D406BEFC2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FF557-3CE0-40E7-AFCA-D70CE19BB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CADA2-284F-466E-9074-1A02EFADC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E30AE-631B-488B-A664-A1BC283A9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AA8DD-BDEB-43A2-ACDF-81DA70C76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4DDAC-0BA8-45EA-AC87-787E7669F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A7EE9-5E0E-43B1-9928-225954C1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FC219-AB52-4E41-A024-1447E910F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6C248-1177-4A57-886E-B70E77F5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5EF38-EB08-41FA-BEB0-CBB60746E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7B5C3-B707-4598-8CEC-E49EB737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692F2-EAE1-49C9-B73D-0EEE9C3D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BA774-6598-405A-AE07-2DCDEFF7E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C743A-9B62-48E1-90A1-E9558316B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45087-A8FA-45E8-A9AB-AABD78B3A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D06BD-65C7-4115-8856-848734406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5E081-A4E3-4B8D-8D39-D4B96A457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F129A-3445-48C1-85AD-EBF05B813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9F916-2E10-4056-9F53-9C823F63D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CB165-3B70-4342-9DBE-8C04BD73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98FFD-38DD-46D3-9001-967603D7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E429F-381D-4123-A78E-641F59EA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D39FE-A8E5-4F78-8189-E342B11761F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3AEDE-45DE-4732-8CF3-60ADF2973E6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Systolic Automata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476360" y="4941720"/>
            <a:ext cx="202392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724360" y="4869000"/>
            <a:ext cx="202428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195280" y="3141720"/>
            <a:ext cx="215640" cy="288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56000" y="3141720"/>
            <a:ext cx="215640" cy="2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6372000" y="3068640"/>
            <a:ext cx="215640" cy="36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3068640"/>
            <a:ext cx="288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403280" y="5734080"/>
            <a:ext cx="5977080" cy="5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 = {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2800" spc="-1" strike="noStrike" baseline="48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|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≥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258920" y="981000"/>
            <a:ext cx="6192720" cy="4969080"/>
          </a:xfrm>
          <a:prstGeom prst="ellipse">
            <a:avLst/>
          </a:prstGeom>
          <a:solidFill>
            <a:srgbClr val="800000">
              <a:alpha val="5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03640" y="2924280"/>
            <a:ext cx="3456000" cy="2089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56000" y="1700280"/>
            <a:ext cx="2736720" cy="2952720"/>
          </a:xfrm>
          <a:prstGeom prst="ellipse">
            <a:avLst/>
          </a:prstGeom>
          <a:solidFill>
            <a:srgbClr val="ff6600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35280" y="3284640"/>
            <a:ext cx="1152720" cy="1152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08360" y="3573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64000" y="3789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B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2205000"/>
            <a:ext cx="863640" cy="43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419640" y="1989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508720" y="191628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0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SBTA in hierarchy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 Systolic Binary Tree Automaton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(SBTA) is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=(Q,</a:t>
            </a:r>
            <a:r>
              <a:rPr b="1" lang="el-GR" sz="4400" spc="-1" strike="noStrike">
                <a:solidFill>
                  <a:srgbClr val="e5e5ff"/>
                </a:solidFill>
                <a:latin typeface="Garamond"/>
              </a:rPr>
              <a:t>Σ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,R,I,#,F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 is finite set of sta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an input alphab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 is finite set of rules of the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q → r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p,q,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is finite set of initial rules of the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 → q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# is end mark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 is a set of final sta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t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 a string such th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,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,…,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= 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= … =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= #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|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| &gt; |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|. Then def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 ►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if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→ 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, 1≤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≤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-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 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,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-1,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+1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→ 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,i+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1≤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≤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is  accepted  by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 and only i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►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α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={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|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accepted by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 is reflexive and transitive closure o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195280" y="3141720"/>
            <a:ext cx="215640" cy="288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56000" y="3141720"/>
            <a:ext cx="215640" cy="2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6372000" y="3068640"/>
            <a:ext cx="215640" cy="36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659640" y="3068640"/>
            <a:ext cx="288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76360" y="4941720"/>
            <a:ext cx="202392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724360" y="4869000"/>
            <a:ext cx="202428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195280" y="3141720"/>
            <a:ext cx="215640" cy="288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56000" y="3141720"/>
            <a:ext cx="215640" cy="2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6372000" y="3068640"/>
            <a:ext cx="215640" cy="36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659640" y="3068640"/>
            <a:ext cx="288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7T18:03:59Z</dcterms:created>
  <dc:creator>Tomáš Masopust</dc:creator>
  <dc:description/>
  <dc:language>en-US</dc:language>
  <cp:lastModifiedBy>Tomáš Masopust</cp:lastModifiedBy>
  <dcterms:modified xsi:type="dcterms:W3CDTF">2005-10-21T13:25:46Z</dcterms:modified>
  <cp:revision>102</cp:revision>
  <dc:subject/>
  <dc:title>Systolic Automata</dc:title>
</cp:coreProperties>
</file>